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Georgia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0" y="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-9802800" y="-335268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-14225760" y="-11796840"/>
            <a:ext cx="166514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99BF-9890-4B6C-9C40-465EAFBA4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984A-718F-4A64-8A98-403BD75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F8F6-C119-477B-B826-C7BE41D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97A1-C426-4301-B4F0-819104B20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1947-E51B-4326-BD37-E77EE9B4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BA88-9D39-4F20-86B8-F5104E18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3FF6-495F-4B6A-B1FB-AF290DA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6EDA-561B-4958-BBD1-8679E98F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6BA8-8F71-4961-B6D7-5B9551A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0268-BC27-47CD-90E8-623F5E2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F822-826E-4C17-B834-22364DE9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3E76-256A-4BB4-B84A-BC2D3F9E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2462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052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0520" indent="-20808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0520" indent="-20808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F8D11A-A981-41BB-BC2C-2387AC338B4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7" name="Group 9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8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Text Box 11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1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4"/>
              <p:cNvSpPr/>
              <p:nvPr/>
            </p:nvSpPr>
            <p:spPr>
              <a:xfrm rot="21420000">
                <a:off x="-18720" y="52272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lib.1september.ru/2004/19/19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zhurnal.mipt.rssi.ru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verlingua.by.ru/archive/005/5_3_1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"/>
          <p:cNvGrpSpPr/>
          <p:nvPr/>
        </p:nvGrpSpPr>
        <p:grpSpPr>
          <a:xfrm>
            <a:off x="682560" y="2170080"/>
            <a:ext cx="7782120" cy="1703520"/>
            <a:chOff x="682560" y="2170080"/>
            <a:chExt cx="7782120" cy="170352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2170080"/>
              <a:ext cx="778212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3"/>
            <p:cNvSpPr/>
            <p:nvPr/>
          </p:nvSpPr>
          <p:spPr>
            <a:xfrm>
              <a:off x="682560" y="2170080"/>
              <a:ext cx="778212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"/>
          <p:cNvGrpSpPr/>
          <p:nvPr/>
        </p:nvGrpSpPr>
        <p:grpSpPr>
          <a:xfrm>
            <a:off x="426960" y="182520"/>
            <a:ext cx="8390160" cy="1325520"/>
            <a:chOff x="426960" y="182520"/>
            <a:chExt cx="8390160" cy="1325520"/>
          </a:xfrm>
        </p:grpSpPr>
        <p:pic>
          <p:nvPicPr>
            <p:cNvPr id="101" name="Picture 2" descr=""/>
            <p:cNvPicPr/>
            <p:nvPr/>
          </p:nvPicPr>
          <p:blipFill>
            <a:blip r:embed="rId1"/>
            <a:stretch/>
          </p:blipFill>
          <p:spPr>
            <a:xfrm>
              <a:off x="426960" y="182520"/>
              <a:ext cx="839016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426960" y="182520"/>
              <a:ext cx="83901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Культурная традиция и современный танец в образовательном хореографическом пространстве Сибирского региона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Е. Б. Овчаренко [и др.]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; Алт. гос. акад. культуры и искусств. – Барнаул : Изд-во Алт. гос. акад. культуры и искусства, 2006. – 227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"/>
          <p:cNvGrpSpPr/>
          <p:nvPr/>
        </p:nvGrpSpPr>
        <p:grpSpPr>
          <a:xfrm>
            <a:off x="298440" y="450720"/>
            <a:ext cx="8696160" cy="954360"/>
            <a:chOff x="298440" y="450720"/>
            <a:chExt cx="8696160" cy="954360"/>
          </a:xfrm>
        </p:grpSpPr>
        <p:pic>
          <p:nvPicPr>
            <p:cNvPr id="106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450720"/>
              <a:ext cx="86961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298440" y="450720"/>
              <a:ext cx="86961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Генри, О. Собрание сочинений : в 5 т. / О. Генри ; сост. С. Валов ; вступит. ст. В. Вербицкого ; примеч. А. Старцева. – М. : Престиж кн. [и др.]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Дойль, А. К. Собрание сочинений : в 12 т. : пер. англ. / Артур Конан Дойл ; сост. Б. Акимов ; вступ. ст. Ю. Кагарлицкого. – М. : При. : Престиж кн. [и др.], 200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"/>
          <p:cNvGrpSpPr/>
          <p:nvPr/>
        </p:nvGrpSpPr>
        <p:grpSpPr>
          <a:xfrm>
            <a:off x="285840" y="182520"/>
            <a:ext cx="8562960" cy="1325520"/>
            <a:chOff x="285840" y="182520"/>
            <a:chExt cx="8562960" cy="1325520"/>
          </a:xfrm>
        </p:grpSpPr>
        <p:pic>
          <p:nvPicPr>
            <p:cNvPr id="111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82520"/>
              <a:ext cx="856296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3"/>
            <p:cNvSpPr/>
            <p:nvPr/>
          </p:nvSpPr>
          <p:spPr>
            <a:xfrm>
              <a:off x="285840" y="182520"/>
              <a:ext cx="85629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Большакова, Н. В. Аргуновские мастера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: в 2 ч. Ч. 1 /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Н. В. Большакова. – М. : Компания Спутник+, 2006. – 259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Толкиен, Д. Р. Р. Властелин Колец : трилогия.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Кн. 1 : Хранители кольца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/ Д. Толкиен ; [пер. с англ. А. В. Немировой]. – М. ; Кызыл : АСТ ; Харьков : Фолио, 2006. – 478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"/>
          <p:cNvGrpSpPr/>
          <p:nvPr/>
        </p:nvGrpSpPr>
        <p:grpSpPr>
          <a:xfrm>
            <a:off x="298440" y="182520"/>
            <a:ext cx="8537760" cy="1325520"/>
            <a:chOff x="298440" y="182520"/>
            <a:chExt cx="8537760" cy="132552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182520"/>
              <a:ext cx="853776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3"/>
            <p:cNvSpPr/>
            <p:nvPr/>
          </p:nvSpPr>
          <p:spPr>
            <a:xfrm>
              <a:off x="298440" y="182520"/>
              <a:ext cx="85377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Антология детективного рассказа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 сост. Х. Л. Борхес, А. Биой Касарес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СПб. : Амфора, 2005. – 414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Звездный портал :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сборник / сост. Г. Панченко, В. Владимирский ; предисл. Г. Панченко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СПб. : Азбука-классика, 2005. – 356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450720" y="182520"/>
            <a:ext cx="8239320" cy="1030320"/>
            <a:chOff x="450720" y="182520"/>
            <a:chExt cx="8239320" cy="103032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82520"/>
              <a:ext cx="8239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3"/>
            <p:cNvSpPr/>
            <p:nvPr/>
          </p:nvSpPr>
          <p:spPr>
            <a:xfrm>
              <a:off x="450720" y="182520"/>
              <a:ext cx="82393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4"/>
          <p:cNvSpPr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Проблемы и методы современной лингвистики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: сб. науч. тр. / Рос. акад. наук, Ин-т языкознания ; отв. ред. Е. Р. Иоанеся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н. – М. : ИЯЗ, 2005. – 258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Культура, язык, словесность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: сб. науч. работ молодых ученых / Пед. ин-т Сарат. гос. ун-та им. Н. Г. Чернышевского ; редкол.: А. П. Романенко [и др.]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. – Саратов : Изд-во Сарат. ун-та, 2004. – 159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Культурный ландшафт как объект наследия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: сб. ст. / Рос. акад. наук, Рос. науч.-исслед. ин-т культурного и природного наследия им. Д. С. Лихачева ; науч. ред. Ю. А. Веденин, М. Е Кулешова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. – М. ; СПб. : Дмитрий Булавин, 2004. – 617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285840" y="214200"/>
            <a:ext cx="9078480" cy="1357560"/>
            <a:chOff x="285840" y="214200"/>
            <a:chExt cx="9078480" cy="135756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928440" y="285480"/>
              <a:ext cx="84358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3"/>
            <p:cNvSpPr/>
            <p:nvPr/>
          </p:nvSpPr>
          <p:spPr>
            <a:xfrm>
              <a:off x="285840" y="214200"/>
              <a:ext cx="84358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ext Box 4"/>
          <p:cNvSpPr/>
          <p:nvPr/>
        </p:nvSpPr>
        <p:spPr>
          <a:xfrm>
            <a:off x="457200" y="1357200"/>
            <a:ext cx="822816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Пушечников, И. Ф. Искусство игры на гобое: история, теория, методика, педагогика : учеб.-метод. пособие.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/ И. Ф. Пушечников ; Моск. гос. ин-т музыки им. А. Г. Шнитке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 – СПб. : Композитор, 2005. – 308 с. : 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Малявина, Т. П. Практикум по орфографии : учеб. пособие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/ Т. П. Малявина ; Мордов. Гос. ун-т им. Н. П. Огарева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 – Саранск : Красный Октябрь, 2005. – 66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"/>
          <p:cNvGrpSpPr/>
          <p:nvPr/>
        </p:nvGrpSpPr>
        <p:grpSpPr>
          <a:xfrm>
            <a:off x="255600" y="0"/>
            <a:ext cx="9251640" cy="1564920"/>
            <a:chOff x="255600" y="0"/>
            <a:chExt cx="9251640" cy="156492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1071360" y="0"/>
              <a:ext cx="8435880" cy="11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255600" y="122040"/>
              <a:ext cx="843624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4"/>
          <p:cNvSpPr/>
          <p:nvPr/>
        </p:nvSpPr>
        <p:spPr>
          <a:xfrm>
            <a:off x="457200" y="1143000"/>
            <a:ext cx="82281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Лингвистика и межкультурная коммуникация : материалы регион. науч. конф. Поволжья и Северо-Кавказского региона, Волгоград, 19-21 апр. 2004 г.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/ М-во образования науки РФ, Волгоград. гос. ун-т ; сост. Л. Г. Фимиченко, Е. А. Пелих.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 – Волгоград : Волгоград. науч. изд-во, 2004. - 490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Модернизация дирижерско-хоровой подготовки учителя музыки в системе профессионального образования : материалы II междунар. науч.-практ. конф., 24-25 сент. 2005 г.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/ Таганрог. гос. пед. ин-т ; под. ред. М. В. Кревсун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. – Таганрог : Изд-во Таганрог. гос. пед. ин-та, 2005. – 265 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450720" y="122400"/>
            <a:ext cx="8239320" cy="1447560"/>
            <a:chOff x="450720" y="122400"/>
            <a:chExt cx="8239320" cy="1447560"/>
          </a:xfrm>
        </p:grpSpPr>
        <p:pic>
          <p:nvPicPr>
            <p:cNvPr id="13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93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450720" y="122400"/>
              <a:ext cx="82393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4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Заголовок </a:t>
            </a:r>
            <a:r>
              <a:rPr b="0" i="1" lang="en-GB" sz="3200" spc="-1" strike="noStrike">
                <a:solidFill>
                  <a:srgbClr val="4e3b30"/>
                </a:solidFill>
                <a:latin typeface="Calibri"/>
              </a:rPr>
              <a:t>(Ф. И. О. автора)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Основное заглавие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: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сведения, относящиеся к заглавию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/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сведения об ответственности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3200" spc="-1" strike="noStrike">
                <a:solidFill>
                  <a:srgbClr val="4e3b30"/>
                </a:solidFill>
                <a:latin typeface="Calibri"/>
              </a:rPr>
              <a:t>(другие авторы) 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//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Название источника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(</a:t>
            </a:r>
            <a:r>
              <a:rPr b="0" i="1" lang="en-GB" sz="3200" spc="-1" strike="noStrike">
                <a:solidFill>
                  <a:srgbClr val="4e3b30"/>
                </a:solidFill>
                <a:latin typeface="Calibri"/>
              </a:rPr>
              <a:t>журнал, газета, сборник.)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Год издания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Номер источника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Стран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"/>
          <p:cNvGrpSpPr/>
          <p:nvPr/>
        </p:nvGrpSpPr>
        <p:grpSpPr>
          <a:xfrm>
            <a:off x="420840" y="0"/>
            <a:ext cx="8240400" cy="1582200"/>
            <a:chOff x="420840" y="0"/>
            <a:chExt cx="8240400" cy="1582200"/>
          </a:xfrm>
        </p:grpSpPr>
        <p:pic>
          <p:nvPicPr>
            <p:cNvPr id="141" name="Picture 2" descr=""/>
            <p:cNvPicPr/>
            <p:nvPr/>
          </p:nvPicPr>
          <p:blipFill>
            <a:blip r:embed="rId1"/>
            <a:stretch/>
          </p:blipFill>
          <p:spPr>
            <a:xfrm>
              <a:off x="420840" y="0"/>
              <a:ext cx="8240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"/>
            <p:cNvSpPr/>
            <p:nvPr/>
          </p:nvSpPr>
          <p:spPr>
            <a:xfrm>
              <a:off x="420840" y="132840"/>
              <a:ext cx="824040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4"/>
          <p:cNvSpPr/>
          <p:nvPr/>
        </p:nvSpPr>
        <p:spPr>
          <a:xfrm>
            <a:off x="457200" y="1143000"/>
            <a:ext cx="822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Логинов, Б. В. Метод ложных возмущений в обобщенных задачах на собственные значения / Б. В. Логинов, О. В. Макеева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//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Доклады Академии наук / Рос. акад. наук.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–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2008.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– Т. 419, № 2.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– С. 160-16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Дольников, В. Л. О теоремах Р. Радо и Д. Уотсона / В. Л. Дольников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//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Моделирование и анализ информационных систем. – 2007. –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Т. 14, № 4.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– С. 36-4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Межуев, В. М. Россия и Европа: возможен диалог? / В. М. Межуев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//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Личность. Культура. Общество. – 2008.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– Т. 10, вып. 1.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– С. 90-11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450720" y="122400"/>
            <a:ext cx="8239320" cy="1161720"/>
            <a:chOff x="450720" y="122400"/>
            <a:chExt cx="8239320" cy="116172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9320" cy="11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450720" y="122400"/>
              <a:ext cx="823932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 Box 4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Зевин, Л. Эволюция постсоветского экономического пространства / Л. Зевин // Общество и экономика. – 2008.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- № 3/4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- С. 197-2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407880" y="262080"/>
            <a:ext cx="8318520" cy="1027080"/>
            <a:chOff x="407880" y="262080"/>
            <a:chExt cx="8318520" cy="1027080"/>
          </a:xfrm>
        </p:grpSpPr>
        <p:pic>
          <p:nvPicPr>
            <p:cNvPr id="61" name="Picture 2" descr=""/>
            <p:cNvPicPr/>
            <p:nvPr/>
          </p:nvPicPr>
          <p:blipFill>
            <a:blip r:embed="rId1"/>
            <a:stretch/>
          </p:blipFill>
          <p:spPr>
            <a:xfrm>
              <a:off x="407880" y="262080"/>
              <a:ext cx="831852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3"/>
            <p:cNvSpPr/>
            <p:nvPr/>
          </p:nvSpPr>
          <p:spPr>
            <a:xfrm>
              <a:off x="407880" y="262080"/>
              <a:ext cx="83185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4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Times New Roman"/>
              </a:rPr>
              <a:t>ГОСТ 7.12-93 Библиографическая запись. Сокращение слов на русском языке. Общие требования и правил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Times New Roman"/>
              </a:rPr>
              <a:t>- ГОСТ 7.80-2000 Библиографическая запись. Заголовок. Общие требования и правила составл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Times New Roman"/>
              </a:rPr>
              <a:t>- ГОСТ 7.82-2001 Библиографическая запись. Библиографическое описание электронных ресурсов. Общие требования и правила составл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Times New Roman"/>
              </a:rPr>
              <a:t>- ГОСТ 7.1-2003 Библиографическая запись. Библиографическое описание. Общие требования и правила составл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Times New Roman"/>
              </a:rPr>
              <a:t>- ГОСТ Р 7.0.5-2008 Библиографическая ссылка. Общие требования и правила составл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"/>
          <p:cNvGrpSpPr/>
          <p:nvPr/>
        </p:nvGrpSpPr>
        <p:grpSpPr>
          <a:xfrm>
            <a:off x="281160" y="281160"/>
            <a:ext cx="8231040" cy="1465200"/>
            <a:chOff x="281160" y="281160"/>
            <a:chExt cx="8231040" cy="1465200"/>
          </a:xfrm>
        </p:grpSpPr>
        <p:pic>
          <p:nvPicPr>
            <p:cNvPr id="151" name="Picture 2" descr=""/>
            <p:cNvPicPr/>
            <p:nvPr/>
          </p:nvPicPr>
          <p:blipFill>
            <a:blip r:embed="rId1"/>
            <a:stretch/>
          </p:blipFill>
          <p:spPr>
            <a:xfrm>
              <a:off x="281160" y="281160"/>
              <a:ext cx="82310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"/>
            <p:cNvSpPr/>
            <p:nvPr/>
          </p:nvSpPr>
          <p:spPr>
            <a:xfrm>
              <a:off x="281160" y="281160"/>
              <a:ext cx="823104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ливанова, И. В. Фразеологизмы с личными именами в современном немецком языке / И. В. Селиванова </a:t>
            </a:r>
            <a:r>
              <a:rPr b="1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// Вестник Московского университета. Серия 19, Лингвистика и межкультурная коммуникация</a:t>
            </a:r>
            <a:r>
              <a:rPr b="0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– 2007. – № 2. – С. 132-1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елтов, А. Ю. Некоторые проблемы типологии посессивности: на материале посессивных конструкций в языке суахили / А. Ю. Желтов // </a:t>
            </a:r>
            <a:r>
              <a:rPr b="1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тник Санкт-Петербургского университета. Серия 9, Филология, востоковедение, журналистика</a:t>
            </a:r>
            <a:r>
              <a:rPr b="0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– 2007. – </a:t>
            </a:r>
            <a:r>
              <a:rPr b="1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ып. 4, ч. 1</a:t>
            </a:r>
            <a:r>
              <a:rPr b="0" lang="en-GB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– С. 54-6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"/>
          <p:cNvGrpSpPr/>
          <p:nvPr/>
        </p:nvGrpSpPr>
        <p:grpSpPr>
          <a:xfrm>
            <a:off x="357120" y="0"/>
            <a:ext cx="8584920" cy="1572840"/>
            <a:chOff x="357120" y="0"/>
            <a:chExt cx="8584920" cy="1572840"/>
          </a:xfrm>
        </p:grpSpPr>
        <p:pic>
          <p:nvPicPr>
            <p:cNvPr id="156" name="Picture 2" descr=""/>
            <p:cNvPicPr/>
            <p:nvPr/>
          </p:nvPicPr>
          <p:blipFill>
            <a:blip r:embed="rId1"/>
            <a:stretch/>
          </p:blipFill>
          <p:spPr>
            <a:xfrm>
              <a:off x="499680" y="0"/>
              <a:ext cx="84423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3"/>
            <p:cNvSpPr/>
            <p:nvPr/>
          </p:nvSpPr>
          <p:spPr>
            <a:xfrm>
              <a:off x="357120" y="213840"/>
              <a:ext cx="84427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Text Box 4"/>
          <p:cNvSpPr/>
          <p:nvPr/>
        </p:nvSpPr>
        <p:spPr>
          <a:xfrm>
            <a:off x="457200" y="1600200"/>
            <a:ext cx="822960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Бурева, Т. А. Философско-культурологический подход к анализу феномена книги / Т. А. Бруева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/ Созидательная миссия культуры : сб. науч. ст. / Моск. гос. ун-т культуры и искусств. – М., 2007.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– С. 130-1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04920" y="325440"/>
            <a:ext cx="86868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4617b"/>
                </a:solidFill>
                <a:latin typeface="Georgia"/>
              </a:rPr>
              <a:t>ГОСТ</a:t>
            </a:r>
            <a:br>
              <a:rPr sz="2800"/>
            </a:br>
            <a:r>
              <a:rPr b="1" lang="en-GB" sz="2800" spc="-1" strike="noStrike">
                <a:solidFill>
                  <a:srgbClr val="04617b"/>
                </a:solidFill>
                <a:latin typeface="Georgia"/>
              </a:rPr>
              <a:t>государственный станда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1643040"/>
            <a:ext cx="82803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Аппаратура радиоэлектронная бытовая. Входные и выходные параметры и типы соединений. Технические требования :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ГОСТ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Р 517721-2001. – Введ. 2002.01.01. – М. : Изд-во стандартов, 2001. – 27 с. : 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Средства индивидуальной защиты рук. Перчатки камерные. Общие технические требования :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ГОСТ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Р 12.4.204 (ИСО 11933-2-87). – Введ. 01.01.03. – М. : Изд-во стандартов, 2001. – 7 с. – (Система стандартов безопасности труд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43080" y="357120"/>
            <a:ext cx="88023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57176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. Основное заглавие [Общее обозначение материала] : сведения, относящиеся к заглавию / сведения об ответственности. – Сведения об издании. – Вид и объем ресурса. – Место издания : издательство, дата издания. – Объем. – Физическая характеристика. – (Серия ; номер выпуска серии). – Примеч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71720" y="2872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описания электронного ресур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ого доступа (CD)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304920" y="214200"/>
            <a:ext cx="8685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Georgia"/>
              </a:rPr>
              <a:t>При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Даль, В. И. Толковый словарь живого великорусского языка Владимира Даля [Электронный ресурс] : подгот. по 2-му печ. изд. 1880-1882 гг. – Электрон.  дан. – М. : АСТ [и др.], 1998. – 1 электрон. опт. диск (CD-ROM). – Систем. требования: IBM PC с процессором 486; операц. Система Windows ; CD-ROM дисков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57200" y="1600200"/>
            <a:ext cx="822960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Энциклопедия этикета Кирилла и Мефодия [Электронный ресурс]. - М. : Кирилл и Мефодий, 2003. - 1 on-line : комбин. - (Современная универсальная российская энциклопедия). - </a:t>
            </a:r>
            <a:r>
              <a:rPr b="1" lang="en-GB" sz="2400" spc="-1" strike="noStrike">
                <a:solidFill>
                  <a:srgbClr val="4e3b30"/>
                </a:solidFill>
                <a:latin typeface="Calibri"/>
              </a:rPr>
              <a:t>Сист. треб. : MS Windows 98 и выше, процессор Pentium, 32 Мбайт ОЗУ, 80 Мбайт своб. места на жестком диске, 4-скор. CD-ROM, SVGA-видеокарта (800x600, 65536 цветов), 16-бит. звук. карта, MS Windows совместимая мышь, MS Internet Explorer 5.0</a:t>
            </a:r>
            <a:r>
              <a:rPr b="0" lang="en-GB" sz="2400" spc="-1" strike="noStrike">
                <a:solidFill>
                  <a:srgbClr val="4e3b3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3184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4617b"/>
                </a:solidFill>
                <a:latin typeface="Georgia"/>
              </a:rPr>
              <a:t>Схема описания электронного ресурса удаленного доступа (Интернет): </a:t>
            </a:r>
            <a:br>
              <a:rPr sz="45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Автор. Заглавие страницы [Общее обозначение материала]. - Режим доступа: электронный адрес (URL). - Дата обращени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304920" y="281160"/>
            <a:ext cx="86850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4617b"/>
                </a:solidFill>
                <a:latin typeface="Georgia"/>
              </a:rPr>
              <a:t>Web-страниц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Мелентьева, Ю. Библиотечное обслуживание в школьной библиотеке: специфика форм и методов. Лекция 3. Библиотечное общение в процессе библиотечного обслуживания [Электронный ресурс] / Юлия Мелентьева // Режим доступа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lib.1september.ru/2004/19/19.htm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- Загл. с экрана. – (Дата обращения: 1.11.200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304920" y="281160"/>
            <a:ext cx="8685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Georgia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Исследовано в России [Электронные ресурсы] : научный  журнал / Московский физико-технический институт. – Электрон. журн. – Долгопрудный : МФТИ, 1998. – Режим доступа: </a:t>
            </a:r>
            <a:r>
              <a:rPr b="0" lang="en-GB" sz="26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zhurnal.mipt.rssi.ru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– Систем. требования: IBM PC ; Windows З.хх/95 ; Acrobat Reader 3.0. – Загл. с экран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304920" y="214200"/>
            <a:ext cx="868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900" spc="-1" strike="noStrike">
                <a:solidFill>
                  <a:srgbClr val="04617b"/>
                </a:solidFill>
                <a:latin typeface="Georgia"/>
              </a:rPr>
              <a:t>Статья </a:t>
            </a:r>
            <a:br>
              <a:rPr sz="2900"/>
            </a:br>
            <a:r>
              <a:rPr b="1" lang="en-GB" sz="2900" spc="-1" strike="noStrike">
                <a:solidFill>
                  <a:srgbClr val="04617b"/>
                </a:solidFill>
                <a:latin typeface="Georgia"/>
              </a:rPr>
              <a:t>из электронного журнал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935000"/>
            <a:ext cx="822960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Белоус, Н. А. Прагматическая реализация коммуникативных стратегий в конфликтном дискурсе / Н. А. Белоус // Мир лингвистики и коммуникации: электронный научный журнал. – 2006. – № 4 [Электронный ресурс]. - Систем. требования: Adobe Acrobat Reader. - Режим доступа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tverlingua.by.ru/archive/005/5_3_1.htm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. -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Дата обращения: 15.12.200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"/>
          <p:cNvGrpSpPr/>
          <p:nvPr/>
        </p:nvGrpSpPr>
        <p:grpSpPr>
          <a:xfrm>
            <a:off x="450720" y="262080"/>
            <a:ext cx="8239320" cy="734760"/>
            <a:chOff x="450720" y="262080"/>
            <a:chExt cx="8239320" cy="73476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39320" cy="7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3"/>
            <p:cNvSpPr/>
            <p:nvPr/>
          </p:nvSpPr>
          <p:spPr>
            <a:xfrm>
              <a:off x="450720" y="262080"/>
              <a:ext cx="823932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 Box 4"/>
          <p:cNvSpPr/>
          <p:nvPr/>
        </p:nvSpPr>
        <p:spPr>
          <a:xfrm>
            <a:off x="457200" y="857160"/>
            <a:ext cx="82296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Международные нормативные ак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Конститу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Федеральные конституционные зак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Постановления Конституционного Су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Кодекс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Федеральные зак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Зак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 Указы Президен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 Акты Прави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постанов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распоряж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Акты Верховного и Высшего Арбитражного Су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Нормативные акты министерств и ведом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постанов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приказ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распоряж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) пись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2. Региональные нормативные акты (в том же порядке, как и российски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3. ГОС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4. СНиПы, СП, ЕНИРы, ВНИРы и д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304920" y="281160"/>
            <a:ext cx="86850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Georgia"/>
              </a:rPr>
              <a:t>С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Российская государственная библиотека [Электронный ресурс] / Центр информ. технологий РГБ ; ред. Т. В. Власенко ; Web-мастер Н. В. Козлова. – Электрон. дан. – М. : Рос. гос. б-ка, 1997. – Режим доступа : http//www.rsl.ru. – Загл. с экра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304920" y="281160"/>
            <a:ext cx="8685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Georgia"/>
              </a:rPr>
              <a:t>Электронная кн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История книги [Электронный ресурс] : учебник для вузов / ред. А. А. Говоров, Т. Г. Куприянова ; Московский гос. ун-т печати, Лаборатория компьютеризации ФИДиКТ. - Электрон. текстовые дан. - М. : Издательство МГУП "Мир книги", 1998. – 348 с. : цв. - Режим доступа: http://www.hi-edu.ru/e-books/HB/, свободный. - Электрон. версия печ. публик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04920" y="281160"/>
            <a:ext cx="8685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4617b"/>
                </a:solidFill>
                <a:latin typeface="Georgia"/>
              </a:rPr>
              <a:t>Базы данных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Электронный каталог ГПНТБ России [Электронный ресурс] : база данных содержит сведения о всех видах, литературы, поступающей в фонд ГПНТБ России. – Электрон. дан. – М., [199-]. – Режим доступа: http://www.gpntb.ru/ win/search/help/el-cat.html. – Загл. с экран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"/>
          <p:cNvGrpSpPr/>
          <p:nvPr/>
        </p:nvGrpSpPr>
        <p:grpSpPr>
          <a:xfrm>
            <a:off x="255600" y="165240"/>
            <a:ext cx="8586720" cy="1447560"/>
            <a:chOff x="255600" y="165240"/>
            <a:chExt cx="8586720" cy="1447560"/>
          </a:xfrm>
        </p:grpSpPr>
        <p:pic>
          <p:nvPicPr>
            <p:cNvPr id="194" name="Picture 2" descr=""/>
            <p:cNvPicPr/>
            <p:nvPr/>
          </p:nvPicPr>
          <p:blipFill>
            <a:blip r:embed="rId1"/>
            <a:stretch/>
          </p:blipFill>
          <p:spPr>
            <a:xfrm>
              <a:off x="255600" y="165240"/>
              <a:ext cx="85867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3"/>
            <p:cNvSpPr/>
            <p:nvPr/>
          </p:nvSpPr>
          <p:spPr>
            <a:xfrm>
              <a:off x="255600" y="165240"/>
              <a:ext cx="85867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 Box 4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Генеральная Ассамблея ООН. Всеобщая декларация прав человека : утверждена резолюцией 217А(Ш) от 10 декабря 1948 г. // Российская газета. – 1998. – 10 декаб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64296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Российская Федерация. Президент (2008–     ; Д. А. Медведев).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О мерах по противодействию коррупции : указ Президента Российской Федерации от 19 мая 2008 г. № 815 // Собрание законодательства Российской Федерации. – 2008. – № 21. – Ст. 2429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457200" y="17316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Чувашская Республика. Президент (1994–     ; Н. В. Федоров). Об основных направлениях бюджетной политики Чувашской Республики в 2009 – 2011 годах : указ Президента Чувашской Республики от 25 апреля 2008 г. № 42 // Советская Чувашия. – 2008. – 26 апр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Чувашская Республика. Законы. О государственной гражданской службе Чувашской Республики : закон от 12 апреля 2005 г. № 11 (ред. от 14.07.2006) // Собрание законодательства Чувашской Республики. – 2005. – № 3. – Ст. 111 ; 2006. – № 7. – Ст. 3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Чувашская Республика. Президент (1994–     ; Н. В. Федоров). Об основных направлениях бюджетной политики Чувашской Республики в 2009 – 2011 годах : указ Президента Чувашской Республики от 25 апреля 2008 г. № 42 // Советская Чувашия. – 2008. – 26 апр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1598760"/>
            <a:ext cx="868680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Особенности оформления библиографической ссыл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214200" y="0"/>
            <a:ext cx="86853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Georgia"/>
              </a:rPr>
              <a:t>По месту расположения в документе различают библиографические ссыл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2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внутритекстовые, помещенные в тексте документа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352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подстрочные, вынесенные из текста вниз полосы документа (в сноску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352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затекстовые, вынесенные за текст документа или его части (в выноску)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"/>
          <p:cNvGrpSpPr/>
          <p:nvPr/>
        </p:nvGrpSpPr>
        <p:grpSpPr>
          <a:xfrm>
            <a:off x="493560" y="554040"/>
            <a:ext cx="8239320" cy="1119240"/>
            <a:chOff x="493560" y="554040"/>
            <a:chExt cx="8239320" cy="111924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493560" y="554040"/>
              <a:ext cx="82393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"/>
            <p:cNvSpPr/>
            <p:nvPr/>
          </p:nvSpPr>
          <p:spPr>
            <a:xfrm>
              <a:off x="493560" y="554040"/>
              <a:ext cx="823932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4"/>
          <p:cNvSpPr/>
          <p:nvPr/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-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-заглав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-сведений об ответствен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-выходные данные: место издания, издательство, год изд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-область количественной характери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04920" y="857160"/>
            <a:ext cx="868500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Список использованной литературы, помещенный в конце дипломной работы, является совокупностью затекстовых ссыл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При нумерации затекстовых библиографических ссылок используется сплошная нумерация для всего текста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В тексте дипломной работы  производится отсылка к затекстовой ссылк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04920" y="720720"/>
            <a:ext cx="8686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Отсылка к затекстовой ссылке заключается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в квадратные скобки - [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Отсылка может содерж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порядковой номер затекстовой ссылки в перечне затекстовых ссыл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имя автора (авторов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название докумен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год изд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обозначение и номер то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2440" algn="just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указание страни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Сведения в отсылке разделяются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запятой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304920" y="539640"/>
            <a:ext cx="86868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Отсылки оформляются единообразно по всему документу: или через указание порядкового номера затекстовой ссылки, или через указание фамилии автора (авторов) или названия произ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Отсылка оформляется следующим образом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10, с. 37] 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Карасик, 2002, с. 231],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при наличии нескольких авторов –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Карасик, Дмитриева, 2005, с. 6–8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Если в отсылке содержатся сведения о нескольких затекстовых ссылках, то группы сведений разделяются точкой с запят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13; 26], [74, с. 16–17; 82, с. 26]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Если текст цитируется не по первоисточнику, а по другому документу, то в начале отсылки приводят слова «Цит. по:», наприме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Цит. по: 132, с. 14]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[Цит. по: Олянич, 2004, с. 39–40]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450720" y="262080"/>
            <a:ext cx="8239320" cy="1027080"/>
            <a:chOff x="450720" y="262080"/>
            <a:chExt cx="8239320" cy="1027080"/>
          </a:xfrm>
        </p:grpSpPr>
        <p:pic>
          <p:nvPicPr>
            <p:cNvPr id="7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3932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3"/>
            <p:cNvSpPr/>
            <p:nvPr/>
          </p:nvSpPr>
          <p:spPr>
            <a:xfrm>
              <a:off x="450720" y="262080"/>
              <a:ext cx="82393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Text Box 4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00"/>
            </a:b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наки препинания:           математические 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-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точка и тире       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/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косая чер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    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чка                   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//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две косые  чер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запятая              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)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круглые скоб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    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оеточие         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[ ]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квадратные  скоб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     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чка с запятой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+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знак  плю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…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ноготочие             </a:t>
            </a:r>
            <a:r>
              <a:rPr b="1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= </a:t>
            </a:r>
            <a:r>
              <a:rPr b="0" lang="en-GB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знак  равен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450720" y="201600"/>
            <a:ext cx="8239320" cy="874800"/>
            <a:chOff x="450720" y="201600"/>
            <a:chExt cx="8239320" cy="87480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01600"/>
              <a:ext cx="823932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"/>
            <p:cNvSpPr/>
            <p:nvPr/>
          </p:nvSpPr>
          <p:spPr>
            <a:xfrm>
              <a:off x="450720" y="201600"/>
              <a:ext cx="823932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Text Box 4"/>
          <p:cNvSpPr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Заголовок описания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Ф. И. О. автора)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Основное заглавие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[Общее обозначение материала]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: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сведения, относящиеся к заглавию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сб. ст., учебник, учеб. пособие, справочник и др.)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/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сведения об ответственности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авторы, составители, редакторы и др.).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–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Сведения об издании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2-е изд., перераб. и доп.)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 –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Место издания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город)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: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Издательство, год издания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. –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Объем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4e3b30"/>
                </a:solidFill>
                <a:latin typeface="Calibri"/>
              </a:rPr>
              <a:t>(количество страниц).</a:t>
            </a:r>
            <a:r>
              <a:rPr b="0" lang="en-GB" sz="2800" spc="-1" strike="noStrike">
                <a:solidFill>
                  <a:srgbClr val="4e3b30"/>
                </a:solidFill>
                <a:latin typeface="Calibri"/>
              </a:rPr>
              <a:t> – </a:t>
            </a:r>
            <a:r>
              <a:rPr b="1" lang="en-GB" sz="2800" spc="-1" strike="noStrike">
                <a:solidFill>
                  <a:srgbClr val="4e3b30"/>
                </a:solidFill>
                <a:latin typeface="Calibri"/>
              </a:rPr>
              <a:t>(Серия ; номер выпуска сер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450720" y="182520"/>
            <a:ext cx="8239320" cy="1325520"/>
            <a:chOff x="450720" y="182520"/>
            <a:chExt cx="8239320" cy="132552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82520"/>
              <a:ext cx="823932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450720" y="182520"/>
              <a:ext cx="823932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Кириков, Б. М.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Архитектура петербургского модерна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 Борис Кириков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3-е изд., с изм. – СПб. : Коло, 2008. – 573 с. : 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298440" y="450720"/>
            <a:ext cx="8696160" cy="1119240"/>
            <a:chOff x="298440" y="450720"/>
            <a:chExt cx="8696160" cy="111924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450720"/>
              <a:ext cx="86961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298440" y="450720"/>
              <a:ext cx="869616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Чекмарев, А. А.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Справочник по черчению : учеб. пособие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А. А. Чекмарев, В. К. Осипов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4-е изд., стер. – М. : Академия, 2008. – 330 с. : 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298440" y="450720"/>
            <a:ext cx="8696160" cy="1119240"/>
            <a:chOff x="298440" y="450720"/>
            <a:chExt cx="8696160" cy="1119240"/>
          </a:xfrm>
        </p:grpSpPr>
        <p:pic>
          <p:nvPicPr>
            <p:cNvPr id="96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450720"/>
              <a:ext cx="86961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"/>
            <p:cNvSpPr/>
            <p:nvPr/>
          </p:nvSpPr>
          <p:spPr>
            <a:xfrm>
              <a:off x="298440" y="450720"/>
              <a:ext cx="869616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Чалова, Л. Д. 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Санитария и гигиена парикмахерских услуг : учебник </a:t>
            </a:r>
            <a:r>
              <a:rPr b="1" lang="en-GB" sz="3200" spc="-1" strike="noStrike">
                <a:solidFill>
                  <a:srgbClr val="4e3b30"/>
                </a:solidFill>
                <a:latin typeface="Calibri"/>
              </a:rPr>
              <a:t>/ Л. Д. Чалова, С. А. Галиева, А. В. Уколова</a:t>
            </a:r>
            <a:r>
              <a:rPr b="0" lang="en-GB" sz="3200" spc="-1" strike="noStrike">
                <a:solidFill>
                  <a:srgbClr val="4e3b30"/>
                </a:solidFill>
                <a:latin typeface="Calibri"/>
              </a:rPr>
              <a:t>. – М. : Академия, 2006. – 156 с. : 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Дата 1"/>
          <p:cNvSpPr/>
          <p:nvPr/>
        </p:nvSpPr>
        <p:spPr>
          <a:xfrm>
            <a:off x="3506760" y="6556320"/>
            <a:ext cx="2131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Arial"/>
              </a:rPr>
              <a:t>http://ideafor.info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bo</dc:creator>
  <dc:description/>
  <dc:language>en-US</dc:language>
  <cp:lastModifiedBy>Образовательный центр "НИВА"</cp:lastModifiedBy>
  <dcterms:modified xsi:type="dcterms:W3CDTF">2010-12-02T11:16:57Z</dcterms:modified>
  <cp:revision>2</cp:revision>
  <dc:subject/>
  <dc:title>Слайд 1</dc:title>
</cp:coreProperties>
</file>